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4BDD-B8CF-47EE-8E16-621A272C8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12FC-7685-460F-8BDC-65A20EFCC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3211-E85C-4A95-855A-BB3414256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0DFB-A871-415F-92EC-A492FCD9E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1E3D-7658-472F-860C-6D94F67B5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444A-94A0-4318-A1D4-0D27D83A6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E77C-1C9E-4A54-AA79-172FD94D2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5CCC-E2F2-4643-A808-C8241F47E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B102-A880-43B1-82C6-A9481AAF6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91F8-DB31-49D4-AEE8-18544F75F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B3ED-914A-464A-8E9C-3A0DF8D38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5551-949A-4011-9445-11E393C3E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34E3-5384-4E43-BBB0-AD26B7924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115A-EAB9-432C-82AB-7C686A97E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92C3-3DEB-4527-8592-C2B616748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D395-F036-4FE1-A227-9D921516C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94EE-0B90-49E0-A0F2-28DFDB33B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9347-7265-4D55-9673-F49F893B3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7D1C-7331-48A2-B131-B9C1060F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D27-7B7B-4663-8451-81514079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F1A54-E098-42E5-80E8-6D7E44F9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EDCD0-16DE-4DCB-AB89-2AEBDC99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DC967-B56B-4F01-9FF8-1D93789F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77364-08C6-46D3-B9A5-1A9934B0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0C971-F1A1-47D6-BD85-AD0EAF6B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12DC7-D6A4-45A7-8B1C-9015F359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3030E4-60AC-42B1-95A8-379F8A9D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651B7-0D61-4C55-BAE1-36A43C53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FD958-AC93-4236-B898-7C8DFEE9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D7796-EB2C-4FC6-AB19-18197463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C6A-9F91-4739-A830-8DD5EF76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87DBB-A986-4EBC-8191-FC431045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1FBCF-8034-41B0-8FE6-6B224B4A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7C8A0-17FF-4A21-A8FE-8AF7593C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9B1E8-76C2-4FD5-BB31-64F5AF2E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6E6DE-8443-4B66-9A65-227CA591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B369F-E674-47B1-B957-F931CF5E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8DE596-AF78-471A-AD31-67C186CE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BF81A-806E-42F2-964C-D6D65C82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90D01-206D-4068-A7F8-D8F94446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E87FF-FCD1-4AEE-9A62-7E341434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0AA-A62D-41DD-8450-A781AF73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0451E-2649-4D29-B4AC-69AB0D8B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94815-B776-4417-BB2C-F4D3AE6E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0C5A4-955F-4A11-BE59-DF3508FC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40E14-229E-4F0B-B213-17304457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39694-66E3-475B-850E-8A7B0EE3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B8835-B566-4202-81CD-5BB1259E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91C2D-D498-47F4-A121-D36E2C2C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19EF9-9460-4DE9-A986-09C0B7B2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1BFF4-B7BA-4EE2-9AFF-F4AEDF22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4ABDC-DCA1-43B0-8C7A-5DDB9C35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38F4-2C07-4B3E-8929-656EE54A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4D523-CE29-486F-8CFA-32A2226F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D81AB-D3E0-40BB-B8BD-31EF84F2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7ADDE-9E94-41F4-B6FA-E065E3A9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9911A-323B-4154-8BC9-FA4354AC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1B2EA-0B51-4393-8E8B-C06250E7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11F23-4A89-4789-8C3E-E6F870A5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5FC5A-4A77-40C0-A49B-B35BFFD8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D3995-FB8A-491B-89F9-110CAC54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4FB19-6078-49CC-B237-50ED20B4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12F30-A069-4FD0-B6E1-CAA434B3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4488-6539-45A3-8251-C9D0B364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4497F-932E-4506-8BC0-028BC844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AC36C-7C90-41E0-A301-AC34DB46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768DA-A53E-4F20-8CCA-CC250E1E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6F8E2-0972-4663-9C13-30555DF0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B11EB-D519-466F-B99D-4A4D5969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FBA4-13B2-41E6-8B92-E5DD3211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EFAF-EF51-4E25-B045-3CBC3741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12CD-D36A-4D48-A74D-0D181B65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4772-BFA4-47A0-A28C-F3467CAD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1A39-1347-4BC3-B7EC-5400EEDD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0F3-4F98-4F05-A509-8E1F7A77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6576-5DBC-4C85-90B6-76347F6D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45AB-5AA5-47B0-BF58-E1F5182F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47D3-FE20-4798-B279-B993FE76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F234-7ED4-4274-A05E-DA2E27B2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8D3D-BE73-4444-9A99-3852002B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7038E-80B1-4BDF-811B-CA53CE2B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FEEC8-CAB9-4722-B373-95B79035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CEC4-449D-4A3F-8F7C-FE435979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6D52-580D-4AC8-89EC-76684BD3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DFBC-34AF-427C-9376-08F0978C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A0A-C75A-48FA-8112-9717793F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999E1-3E31-4201-BDC5-B6872BF7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9BCE4-D061-4829-9243-1F9CCCEB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FE33-224C-479D-8759-D784B851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4D474-FA71-4E8F-B839-0D3521D3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A16F-8454-4C96-AA9D-9839DE98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B6425-3597-4697-967E-DE0F2789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DE677-3F53-4E79-BF27-3808A1AD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9AF34-E050-4B00-AB41-45491451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F12C-CE0C-4196-9A17-1A1E89DE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D93B2-8065-4B86-9B14-A6D7AE3B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484-F4F5-4EB4-AC0E-5B1A7FF7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DB71A-AF91-4820-9BA7-FBDE9C4F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539D6-EAC9-41F7-AA10-1E0E4B09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00E58-49B5-4215-B06B-F757F709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DB772-4701-412C-A731-FBC488E6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0533A-B1F6-4919-A373-30AEC46E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3D678-B3E7-48C9-8B9C-C0C77BE6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5440-B4D4-4011-A8E1-C6ED9512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0929B-D88D-4247-B7D4-854EF824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C227E-5347-44D6-A529-8BCB6E90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B9C95-990D-40BD-AE46-9378DBEA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8B0-A990-4A2C-980A-45B9FDFE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3BB55-92B7-41F5-B426-10CDE25E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4BF0A-97A4-438A-942F-9ADA60E9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B559F-3187-48FB-AFBC-995A6BFA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E6B1B-D2BC-4043-BE69-258D7150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569A3-2010-4C75-9157-2F68DAB4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9AD29-A5B9-4AEF-9CDF-262E2419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9EF1A-5A9E-433F-A597-F91A021A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50E83-6823-4D50-9909-AB8AC336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6EDCC-2EB3-4787-A8E9-BD16433D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47108-4B9E-42BD-AD27-CD770066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4A1-6CA6-4E36-AED9-7A8400A1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B4D76-983D-4D29-BFDE-3C8615A9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1B3D8-E7CF-4BFF-A2C1-F56BAD5B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9D70F-78A3-41EB-8A1C-4F1094A5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BAA8D-994F-4287-9E1D-68E64822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12CAD-4661-4A78-B011-5F0182D1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6DD05-0801-465A-A724-EE0EE62B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DC17D-A6FE-49B1-B537-58C231CC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DE7BC-1C3B-4281-9412-0C262C3B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9B451-F238-4A3E-8870-063B282F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83F00-58FF-403E-8887-292DF6D1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7C2-8583-4962-A8CD-533DD078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91062-AE1D-40F5-97CE-29324CC0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48D48-4C54-4FF3-B066-7D33DF52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F4DAB-26B8-4270-A5AB-A141B768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11AF7-D288-48B1-9153-D05D5D0C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9EDB3-B370-4388-8BE5-3F0A821B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5EB66-3F79-400F-8D40-11158584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B11A6-ADF0-47C0-A30F-9A6EDCF8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41789-5F8E-4F22-BA44-A440083D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4AA14-90C2-4D74-87A0-DB367A1A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E4A0F-38BE-4E36-BE79-DB3D69E1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6C5-B94C-4569-BD65-83179B18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8B508-218F-4B4A-AB5C-0A23450F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D8BB1-4EEF-41E4-81AD-3C92DC05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556B9-F795-4A08-BD41-83E9282A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29807-7639-4EDB-9547-3F6D0C78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D830E-1BEF-4CAD-95BB-58D660ED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6BB0D-1DE0-4AB5-84AA-2A594038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E603E-12F5-4A01-A8E1-FA1561D6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3D8CE-F38E-419C-8717-36323183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71E6E-088C-43E0-AB3E-C039AECA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469E6-D30C-4555-A216-74FF9279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9C1-5E48-41EC-AFDE-7F60563C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BDE09-9204-4B63-9716-E242A995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88DAE-3488-4344-ADB3-EA80FE22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7187D-A05F-42C1-8B8B-C00A5ABC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1B2BB-97B8-49D1-B9AF-B5EFA92E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65599-DD9A-4FCD-8A16-BC697A97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2BF07-BD2A-403F-82A8-A029179C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4C475-FB15-40AA-B0B6-426855D9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FA817-41EB-461D-8524-A548DCDB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23C68-DF8E-4EE7-8FFF-2A026207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08DF7-22D2-4897-AEFF-B88AB447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3F45-D2A1-4935-AAD6-005A90A4F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35B8-3411-421C-9E97-FFD8942654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7F89-4DF3-4837-B0C7-C14699EAB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F9C2-043E-40D0-89AF-90F448A11F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37A1-9F81-4C42-9401-FA8C67ECBA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EC7B-4FAF-4447-BFCD-6BB8B0549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5BC4-9137-44D1-9DC1-B3A1A64D86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2BA9-202A-485E-9051-43AD4EF78D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AD05-2313-4B21-B2B2-EEA633DC7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04D2-5929-4DDE-8847-B26D083F0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8A2B-F1F2-4F87-B6A3-C4E687974F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D960-F2E2-47DE-9160-711EA9552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57168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8600" spc="-1" strike="noStrike">
                <a:solidFill>
                  <a:srgbClr val="d16349"/>
                </a:solidFill>
                <a:latin typeface="Georgia"/>
              </a:rPr>
              <a:t>DATABASE</a:t>
            </a:r>
            <a:endParaRPr b="0" lang="en-US" sz="8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databas3.jpg"/>
          <p:cNvPicPr/>
          <p:nvPr/>
        </p:nvPicPr>
        <p:blipFill>
          <a:blip r:embed="rId1"/>
          <a:stretch/>
        </p:blipFill>
        <p:spPr>
          <a:xfrm>
            <a:off x="2428920" y="2571840"/>
            <a:ext cx="42894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DATA TYP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ALPHANUMERIC/TEXT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NUMERIC (NUMBER)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LOGICAL/BOOLEAN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DATE</a:t>
            </a:r>
            <a:br>
              <a:rPr sz="2700"/>
            </a:b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428760" y="2428920"/>
            <a:ext cx="4929120" cy="85716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NUMERIC (number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For integers (whole numbers) or real numbers (decimal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Fields that hold numbers only eg. 27 or 0.24, not numbers and tex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DATA TYP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ALPHANUMERIC/TEXT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NUMERIC (NUMBER)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LOGICAL/BOOLEAN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DATE</a:t>
            </a:r>
            <a:br>
              <a:rPr sz="2700"/>
            </a:b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428760" y="3357720"/>
            <a:ext cx="4929120" cy="85716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LOGICAL/BOOLE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Can only hold two values – usually yes/no or true/fals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Fields such as a Member? Paid? Where the answer is yes or n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Access shown this as a box that is ticked yes or not  ticked n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DATA TYP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ALPHANUMERIC/TEXT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NUMERIC (NUMBER)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LOGICAL/BOOLEAN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DATE</a:t>
            </a:r>
            <a:br>
              <a:rPr sz="2700"/>
            </a:b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428760" y="4286160"/>
            <a:ext cx="4929120" cy="85752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DAT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For dates or tim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Storing dates in many different forma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VALID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Use validation rules to make sure the data you enter is REASONAB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A validation rule does not stop you entering the wrong data, it stops you entering UNREASONABLE dat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5" name="Picture 3" descr="validation.jpg"/>
          <p:cNvPicPr/>
          <p:nvPr/>
        </p:nvPicPr>
        <p:blipFill>
          <a:blip r:embed="rId1"/>
          <a:stretch/>
        </p:blipFill>
        <p:spPr>
          <a:xfrm>
            <a:off x="3214800" y="3357720"/>
            <a:ext cx="20714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VERIF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Two methods, visual checking and double entr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8" name="Picture 3" descr="VERIFICATION.jpg"/>
          <p:cNvPicPr/>
          <p:nvPr/>
        </p:nvPicPr>
        <p:blipFill>
          <a:blip r:embed="rId1"/>
          <a:stretch/>
        </p:blipFill>
        <p:spPr>
          <a:xfrm>
            <a:off x="3214800" y="2286000"/>
            <a:ext cx="2538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300" spc="-1" strike="noStrike">
                <a:solidFill>
                  <a:srgbClr val="a9432b"/>
                </a:solidFill>
                <a:latin typeface="Georgia"/>
              </a:rPr>
              <a:t>Computer-based filing syste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Information in computer-based filing systems are stored in DATA FIL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A FILE is a collection of RELATED REC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Related records means that one field in a table will contain the  same sort of information as a field in each of the other tabl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28760" y="642960"/>
          <a:ext cx="8372520" cy="2000160"/>
        </p:xfrm>
        <a:graphic>
          <a:graphicData uri="http://schemas.openxmlformats.org/drawingml/2006/table">
            <a:tbl>
              <a:tblPr/>
              <a:tblGrid>
                <a:gridCol w="2093760"/>
                <a:gridCol w="2092320"/>
                <a:gridCol w="2093760"/>
                <a:gridCol w="209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S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2456-9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mplete Ca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laudia Heini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6789-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uild your own 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rian Dea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87890-098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tter 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ula 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620" name="Rectangle 6"/>
          <p:cNvSpPr/>
          <p:nvPr/>
        </p:nvSpPr>
        <p:spPr>
          <a:xfrm>
            <a:off x="214200" y="285840"/>
            <a:ext cx="8572680" cy="250020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1643040" y="4071960"/>
            <a:ext cx="5857920" cy="78588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Georgia"/>
              </a:rPr>
              <a:t>Fi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Straight Arrow Connector 9"/>
          <p:cNvCxnSpPr/>
          <p:nvPr/>
        </p:nvCxnSpPr>
        <p:spPr>
          <a:xfrm>
            <a:off x="4070880" y="2785680"/>
            <a:ext cx="429480" cy="1429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500040" y="1500120"/>
          <a:ext cx="8229600" cy="202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S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2456-9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mplete Ca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laudia Heini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6789-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uild your own 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rian Dea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87890-098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tter 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ula 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625" name="Rectangle 6"/>
          <p:cNvSpPr/>
          <p:nvPr/>
        </p:nvSpPr>
        <p:spPr>
          <a:xfrm>
            <a:off x="285840" y="1428840"/>
            <a:ext cx="8429400" cy="57132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1857240" y="4286160"/>
            <a:ext cx="5643720" cy="57168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Georgia"/>
              </a:rPr>
              <a:t>Fiel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Straight Arrow Connector 9"/>
          <p:cNvCxnSpPr/>
          <p:nvPr/>
        </p:nvCxnSpPr>
        <p:spPr>
          <a:xfrm>
            <a:off x="3785040" y="2000160"/>
            <a:ext cx="715320" cy="2215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500040" y="1500120"/>
          <a:ext cx="8229600" cy="202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S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2456-9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mplete Ca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laudia Heini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6789-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uild your own 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rian Dea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87890-098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tter 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ula 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630" name="Rectangle 6"/>
          <p:cNvSpPr/>
          <p:nvPr/>
        </p:nvSpPr>
        <p:spPr>
          <a:xfrm>
            <a:off x="428760" y="3143160"/>
            <a:ext cx="8429400" cy="57168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1857240" y="4286160"/>
            <a:ext cx="5643720" cy="78588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Georgia"/>
              </a:rPr>
              <a:t>Reco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Straight Arrow Connector 9"/>
          <p:cNvCxnSpPr/>
          <p:nvPr/>
        </p:nvCxnSpPr>
        <p:spPr>
          <a:xfrm>
            <a:off x="4428000" y="3428640"/>
            <a:ext cx="72360" cy="786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500040" y="1500120"/>
          <a:ext cx="8229600" cy="202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S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2456-9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mplete Ca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laudia Heini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6789-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uild your own 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rian Dea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87890-098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tter 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ula 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635" name="Rectangle 6"/>
          <p:cNvSpPr/>
          <p:nvPr/>
        </p:nvSpPr>
        <p:spPr>
          <a:xfrm>
            <a:off x="428760" y="1285920"/>
            <a:ext cx="2000160" cy="228600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857160" y="4929120"/>
            <a:ext cx="5643720" cy="57168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Georgia"/>
              </a:rPr>
              <a:t>Key 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Straight Arrow Connector 9"/>
          <p:cNvCxnSpPr/>
          <p:nvPr/>
        </p:nvCxnSpPr>
        <p:spPr>
          <a:xfrm>
            <a:off x="1428480" y="3571920"/>
            <a:ext cx="1572120" cy="1286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500040" y="1500120"/>
          <a:ext cx="8229600" cy="2022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S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2456-9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mplete Ca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laudia Heini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6789-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uild your own 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rian Deac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87890-098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tter 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ula 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ay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640" name="Rectangle 6"/>
          <p:cNvSpPr/>
          <p:nvPr/>
        </p:nvSpPr>
        <p:spPr>
          <a:xfrm>
            <a:off x="428760" y="1285920"/>
            <a:ext cx="2000160" cy="228600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1285920" y="3786120"/>
            <a:ext cx="7358040" cy="278604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000000"/>
                </a:solidFill>
                <a:latin typeface="Georgia"/>
              </a:rPr>
              <a:t>Key Field uniquely identifies an individual reco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Straight Arrow Connector 9"/>
          <p:cNvCxnSpPr/>
          <p:nvPr/>
        </p:nvCxnSpPr>
        <p:spPr>
          <a:xfrm>
            <a:off x="1428480" y="3571920"/>
            <a:ext cx="1572120" cy="1286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DATA TYP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ALPHANUMERIC/TEXT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NUMERIC (NUMBER)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LOGICAL/BOOLEAN</a:t>
            </a: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DATE</a:t>
            </a:r>
            <a:br>
              <a:rPr sz="2700"/>
            </a:br>
            <a:br>
              <a:rPr sz="2700"/>
            </a:br>
            <a:r>
              <a:rPr b="0" lang="en-Z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428760" y="1500120"/>
            <a:ext cx="4929120" cy="857160"/>
          </a:xfrm>
          <a:prstGeom prst="rect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300" spc="-1" strike="noStrike">
                <a:solidFill>
                  <a:srgbClr val="a9432b"/>
                </a:solidFill>
                <a:latin typeface="Georgia"/>
              </a:rPr>
              <a:t>ALPHANUMERIC/TEX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800" spc="-1" strike="noStrike">
                <a:solidFill>
                  <a:srgbClr val="000000"/>
                </a:solidFill>
                <a:latin typeface="Georgia"/>
              </a:rPr>
              <a:t>Can hold any character such as a letter, number, symbol or space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800" spc="-1" strike="noStrike">
                <a:solidFill>
                  <a:srgbClr val="000000"/>
                </a:solidFill>
                <a:latin typeface="Georgia"/>
              </a:rPr>
              <a:t>Mixture of letters and numbers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2:53:59Z</dcterms:created>
  <dc:creator>Kotie</dc:creator>
  <dc:description/>
  <dc:language>en-US</dc:language>
  <cp:lastModifiedBy>pienaark</cp:lastModifiedBy>
  <dcterms:modified xsi:type="dcterms:W3CDTF">2010-05-19T18:35:32Z</dcterms:modified>
  <cp:revision>4</cp:revision>
  <dc:subject/>
  <dc:title>DATABASE</dc:title>
</cp:coreProperties>
</file>